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65C-B502-40CB-A271-057778F3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F3E-1584-4348-98EE-3B02D22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B57-0339-42A3-8304-EEB7240F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AB0-DFA7-4A9D-AC47-F8D5777F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FF1A-361D-4E1A-B318-1AB92BA2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86F-BB2D-43FA-AAA3-16C7CAD2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C03B-8306-49A0-B362-A3E3F0D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E76-89AB-4053-8488-65EFB58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BF96-D6F1-46FB-A9C7-6993FD3A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4E4-3907-4223-8FB4-C3210CB1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881E-A209-42EF-AB99-AC30A4DE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48A-B2F2-46B6-95AE-8864509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DC9-3274-4A19-9C1F-FA17CE92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C2C8-D7BA-42B8-81DE-01AF26A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EF08-21BE-49D6-A4D7-7A29E820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1037-F2D4-4C2D-9333-1B48882B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BFDC-AB5C-434E-92F1-9BFE8EC6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190-49F3-4137-8E46-C315F2EB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1E1-909D-4811-8967-1B9A665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0A4-5EB3-44EB-BFD7-F4BE74F6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27D-BC8A-4BE4-8F68-D760F6B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034-08D4-4855-9118-314E79EE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35B-0437-4DA1-B7DE-CD5E25EA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A2A-244E-4D05-AC72-59E5D98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74DB-31C4-4F53-B7D9-826DE7FC7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30E0-F4D5-419B-8B30-951D8F9D86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6200" y="456840"/>
            <a:ext cx="4417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6950"/>
                </a:solidFill>
                <a:latin typeface="Times New Roman"/>
              </a:rPr>
              <a:t>Old Englis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00600" y="2362320"/>
            <a:ext cx="3960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6950"/>
                </a:solidFill>
                <a:latin typeface="Times New Roman"/>
              </a:rPr>
              <a:t>The Origins of an Ever-Changing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’d think it was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“Dollar Days” at Kma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76520" y="1905120"/>
            <a:ext cx="723888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Angles/Saxons invade from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Jutes move in from Den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That’s just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ligraph421 BT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 century 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In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ligraph421 BT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 centu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The Danes moved in, to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Normans (from NORMANdy) took advantage of the situation and kicked all of their but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ligraph4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w do we know all of thi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76520" y="2743200"/>
            <a:ext cx="6248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 Venerable Be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~The Ecclesiastical History of the English 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05120" y="2743200"/>
            <a:ext cx="6248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~very little Celtic influence (only a few words still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1. Crag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2. Bi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3. Carr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4. Du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905120" y="251460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1. Crag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eep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2. Bi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3. Carr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4. Dunn –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gray, d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28800" y="1208160"/>
            <a:ext cx="66294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~Lots of Latin fl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is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lante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Win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yse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tte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etel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isc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ndel -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76520" y="1484280"/>
            <a:ext cx="64166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ise -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eas (pl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lante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Win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w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yse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tte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etel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ke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isc -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d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ligraph421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ndel -  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can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nglish’s Ev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90920" y="1523880"/>
            <a:ext cx="4952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ligraph421 BT"/>
              </a:rPr>
              <a:t>Now, we borrow (steal?), create, and compound to create new words 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to the Literatur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Anglo-Saxon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Felt the need to protect home &amp;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Fame, success, and survival was dependent upon loyalty to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Very close quar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ytholog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Resembled Norse my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Didn’t believe in an after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elieved in warrior g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~Woden – god of death, poetry, and 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~Thor/Thunor – god of thunder and light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elieved dragons protected tr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Important Values in a Hostile World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ravery, loyalty, generosity, friend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More concerned with ethics than mys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26" descr=""/>
          <p:cNvPicPr/>
          <p:nvPr/>
        </p:nvPicPr>
        <p:blipFill>
          <a:blip r:embed="rId1"/>
          <a:stretch/>
        </p:blipFill>
        <p:spPr>
          <a:xfrm>
            <a:off x="1219320" y="0"/>
            <a:ext cx="5246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7"/>
          <p:cNvSpPr/>
          <p:nvPr/>
        </p:nvSpPr>
        <p:spPr>
          <a:xfrm>
            <a:off x="65530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28"/>
          <p:cNvSpPr/>
          <p:nvPr/>
        </p:nvSpPr>
        <p:spPr>
          <a:xfrm>
            <a:off x="6629400" y="15238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ligraph421 BT"/>
              </a:rPr>
              <a:t>A Manuscript Page From Beowu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t’s important to stick together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2362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Community halls offered shelter,                a meeting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Became a place for story-t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w did we get the storie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Creating poetry was just as much respected as fighting, farming, or h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Scops would recite poetry to mu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Stories were spread through oral tra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Monasteries were centers for learning, so manuscripts were stor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Latin became language of learning; English was gaining 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295280" y="17524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421 BT"/>
              </a:rPr>
              <a:t>Anglo-Saxon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95280" y="1219320"/>
            <a:ext cx="7848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ligraph421 BT"/>
              </a:rPr>
              <a:t>Modern English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Clash of words and cul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Changes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Adoption of New Words  </a:t>
            </a:r>
            <a:r>
              <a:rPr b="1" lang="en-US" sz="2400" spc="-1" strike="noStrike">
                <a:solidFill>
                  <a:srgbClr val="000000"/>
                </a:solidFill>
                <a:latin typeface="Calligraph421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371600" y="4800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So, what exactly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371600" y="533520"/>
            <a:ext cx="6858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ligraph421 BT"/>
              </a:rPr>
              <a:t>In the beginning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ligraph421 BT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-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ligraph421 BT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 century – Celts called “Brythons” lived in Britain (guess where the name is deri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 Celts’ were pagan, possessing beliefs in spirits and gods in every element of nature.  Their religion has been likened to that of animism or mytholog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1447920" y="914400"/>
            <a:ext cx="693396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55 B.C.E. ~ The Romans inva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The Romans, led by none other than Julius Caesar, invade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European missionaries bring Christianity to the nation  (Guess what happened to the Anglo-Saxon religi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Romans built roads (still used today- amazing!), provided armies, and introduced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nd then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371600" y="2209680"/>
            <a:ext cx="7315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 Romans went ho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421 BT"/>
              </a:rPr>
              <a:t>They had other business in which to tend, like protecting their own country in two other wars they were figh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ow what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371600" y="2514600"/>
            <a:ext cx="6858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Poor Britain…Left to fend for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No armies, no government, etc.  Romans took it with them when they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Uh, oh…that can only mean tr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Times New Roman"/>
              </a:rPr>
              <a:t>ATTACK!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76520" y="28954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ligraph421 BT"/>
              </a:rPr>
              <a:t>It couldn’t have been more ugl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3:06:03Z</dcterms:created>
  <dc:creator>Anthony</dc:creator>
  <dc:description/>
  <dc:language>en-US</dc:language>
  <cp:lastModifiedBy>lcipriano</cp:lastModifiedBy>
  <dcterms:modified xsi:type="dcterms:W3CDTF">2010-09-09T16:14:27Z</dcterms:modified>
  <cp:revision>11</cp:revision>
  <dc:subject/>
  <dc:title>Old English</dc:title>
</cp:coreProperties>
</file>